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FF4-F9D2-4AB5-B499-3807379A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D9F1-6C7D-4292-ADB3-F95A9DE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579-F15E-4DC4-BCE4-19D799E8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6AD-E695-4C47-9C88-AE4E3853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93D8-C8A7-4CB1-96E9-725115D5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2993-24E4-41AA-93A6-1A194544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5DEE-7DA0-4BD1-98C5-ACF4D926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168A-D992-4221-96FA-D0ABB560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5E39-FAFA-432E-BA97-5C2FF527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E525-311C-4F80-92AC-F1FE92CD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E133-975A-41DB-829D-EE442A8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666-5A3F-4499-B3EF-7B39E21E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440C-4E09-4E7E-8F9C-964E178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7CE3-F4E9-4360-872B-09A690F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825-9654-4B00-A8B9-C5F48610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618-6ED1-421C-8E26-0055A549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1812-3DDF-44B9-BF17-8835B173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78C-7C96-4F27-BBD4-27C1C6D0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61E8-5D17-41F6-A905-F67CB849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DCD9-FBB1-4C1C-820C-5346EEEF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0B7-2E33-436F-A059-8EB04907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E09-BEC7-4D4D-92B4-66342440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532-6BA0-4C7B-8F26-A1888B9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E02-97B2-4DB3-96C5-1D89CD9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1FFD-86A4-4E39-9900-26C0C345234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4B9-4692-4CEB-8BAF-F94CCBF816D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ext stop: Paradis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cro Review (some new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swer is $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ep to stability is maintaining money $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it at a level &amp; keep it t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 smooth out fluctu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stick to monetary rule all will be bett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 $ under control to set inflation &amp; pr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just ide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viously don’t have kinks worked 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uldn’t have had another massive reces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s as to how waves can be smoot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I:  How big is i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order for the gov’t to know what to do, must know how well the economy is do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tion 2 sets up way for the gov’t to evaluate the econom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D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al value of goods &amp; services produced in a country in a given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much stuff we are mak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 perfect figure, but best single number snapsho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 ways to get i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ome approach:  WIR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nditure approach:  CIG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nce money spent by you is money earned elsewhere the 2 should be equ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keep accurate, avoid several proble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blem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Double-counting:  adding same element more than one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lue added approach (VA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AMA ADMIN RIGHT NOW!!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count final goods/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Prices change…distorting out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Key is how MU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how much we pay, but how much we g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’t care about pr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e about quant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prices change, the apparent value of what we are producing changes, but do we get mo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al vs nomin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minal calculates value based on prices right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sier to do, but not as g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 keeps prices constant so any changes reflect quant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rder, but actually has val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 are connecte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only difference btwn them is Nominal is inflated by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deflator used to “undo” impact of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 = (Nominal / GDP deflator) x 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deflator = (Nom/Real) x 1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ole point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ll how well economy is doing so we can stabilize the business cy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individually we don’t care about GDP…we care about 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ycle impacts 3 other key thing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tion, unemployment,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t some new stuff fir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view found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and out in 30 minutes (or s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s go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more than others, some go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 Index measures change in prices in gen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PI: what average urban consumer bu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rts with a bask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identify what’s in the market basket (never chang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how much that group of things changes over 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t is how you measure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.  Calculate bas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 x Q for all things in 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 Calculate C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rrent basket / base basket x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.  Calculate inf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CPI 2-CPI 1) / CPI 1 x 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eneral goal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e how much prices are affecting us (nobody can escape the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wo graphs showing how it can 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nemploymen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ople w/o jobs who want 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ggest thing is that it reduces our EFFICIENCY (OKUN’S LAW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P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/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ll employment = natural rate of unemployment = LRAS = potential GD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W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be using all resources to get most stuf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emphasize capital to get more in the fu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going present consumption to increase future outp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ird thing is GDP not effect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on’t matter till lat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ter never comes but the past’s later is n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nt economy growing but sacrifices now help fu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 ways to show grow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st thing possible is to have the opposite (STAGFL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’t assumed role of business cycle moder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DP &amp; crew are used to evaluate how well economy is do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lation, unemployment, growth sub-measures of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xt class look at how they do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? Why? Why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re did macro come from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? Who? How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gov’t’s only job in INTERVENING is to 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happens if they don’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e love Maynard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studies have been based on Keynesian econom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that gov’t needs to (is responsible to) stabiliz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y is it necessar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icky” wages &amp; equilibrium below desired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ap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p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using everything, pay more to get more, pay more to get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be anywhere &amp; stay any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’t uses fiscal &amp; monetary to “fix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ces &amp; wages “sticky”; adjust spending (CIGX) to keep r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s’t always like th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w a baby in water, they will swi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ld people say economy will to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t it alone &amp; it will fix itse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assical economists favored laissez-faire (hands off approac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ill have busines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exible” prices &amp; wages keep it @ LR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changes to keep economy in LRA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nk about recession…if not working do you ea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eating makes you willing to work for 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not doing something economy values you are in trou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ut it will be o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goes down must come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’S LAW:  supply creates it’s own dem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switched to Keynesian thought b/c we weren’t willing to wa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either are “right”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 ideas as to how to 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etarists different y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credence to sticky but don’t think fiscal policy wor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TIONAL EXPEC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WDING-O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2:20:32Z</dcterms:created>
  <dc:creator>Lewisburg Area School District</dc:creator>
  <dc:description/>
  <dc:language>en-US</dc:language>
  <cp:lastModifiedBy>Lewisburg Area School District</cp:lastModifiedBy>
  <dcterms:modified xsi:type="dcterms:W3CDTF">2010-04-19T14:43:11Z</dcterms:modified>
  <cp:revision>3</cp:revision>
  <dc:subject/>
  <dc:title>Next stop: Paradise</dc:title>
</cp:coreProperties>
</file>